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9BD-2EAE-488E-B32D-F36CC6FD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AD6-59ED-4CED-9689-A0624008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F727B-839F-4DF4-9FDB-DE776027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88195-2B63-487E-AB39-6A6C771C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B77AE-91C5-4905-9E88-6E9136C0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2A17A-2AF9-4068-9EAF-703D189D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6A97B-1D40-4A0C-B0A5-B42DEEC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E7710-147D-4E8A-85E9-44FE85C0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AB9BD-2103-421F-B443-A2FA76E9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D9B98-587E-4129-91E7-2CD8AF89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8A354-2C82-4E90-BFF9-04E942EA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0F672-6482-4D81-BFDF-A13D74B2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3A0-3569-41C3-9243-44C8A034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E0F8E-04AC-4722-9D85-AC2DF950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3C0D6-7608-41F5-94B8-0D7344AD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A95FF-BD1F-46A7-BC9C-BA29C2E3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3FDF8-23B0-418A-88A5-AB23A222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48ADB-5B05-4313-A6D0-5AE706F9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046C2-AC10-4F4F-8529-5CE8CD6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52798-21EC-4A88-8B5D-6F95B639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3BDA6-D298-4EDA-8AA2-887591C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ACDDB-C574-4765-9574-1B56EDF5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358F5-9945-42C9-9D86-9D572401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48E-FE16-4D2E-9882-0F8C0911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D7708-C97D-4C7E-AFAB-5CA5A5FA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04045-363E-45A4-9F8D-F9480E7D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F5AEA-97F9-4132-A77F-6E5A24A8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0F512-0642-4288-BF10-43B35AED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BAD4C-A53F-462B-B0D9-A485A8F7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251F6-D46A-40F3-A772-F5A3B432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8E988-5E33-4638-BE49-8B8F78D7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EBC44-0F34-4F56-B58F-74083324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81ADA-0314-4964-8364-24544916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2F8B5-AB92-4799-BB3E-1D452DA2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AE37-CC3B-4D74-AC83-0E30DE09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1927D-3C42-4C42-8945-D6AD3872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FD1D4-3D5E-4CB5-9DED-E65F8120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1FD5E-294C-49EE-89C5-9F6075FF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C8F5B-5FF3-41D2-AAB7-1346C540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1E620-3CA4-4FF3-A8B7-5FB7406A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8D4B7-5E9A-45E5-86B9-98764D18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CA625-A321-42B0-BF49-1D641A4E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54F78-1951-4317-B846-94847F5A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03775-501D-4D52-BA63-90727B61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8856E-A2A5-4576-975B-F250D23E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AC64-3F77-4133-8FDD-AA45DA81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C08B7E-475C-4E3F-97AE-D69ECAAF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BE094-BD25-49A6-860D-166C4E36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BA7B2-0857-413B-8293-B7096FF9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0B256-4187-4FB5-93FF-1B93B8A2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9BB1E-80FD-421B-A591-3FC1136F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B447-5619-4912-B523-12390064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CF1C-E9BD-4BBE-8034-038C8933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B5F8-7489-440B-91D5-8AAA9088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6FAE-42C5-4D29-A1FF-2EEC50A7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28DE-857F-455D-8901-775CA476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C11-0FD0-4DDC-AF8F-EBD10381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C019-C66A-4102-B94E-D2ACB968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4CF7-755B-4918-937D-4D3798B4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DA1C-F70E-401D-9553-6D5A4CD8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A180-4075-4315-A9E2-5A5B5634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A8EE-8DAE-4894-B562-90FFA2D0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2BA0-B122-4C3B-8E91-4B792A9B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6A0DB-25C0-4DD1-8BFF-FCB214F1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5CAAB-7C86-4589-ABF6-3AF40AC9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F6FF-F522-40D7-9121-F7D0FA32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5ADEA-1883-4A6F-BC0C-A1D218CB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5AE-7236-49B4-BEEC-F88AFC14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C1B4-667A-4D84-8270-62379E79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0B9D-809A-42FC-B355-7EAC9ED0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418F-4A3E-4784-BC40-7AB27CF0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840D0-7935-4D7E-8557-E035A58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DF66E-F0F7-4556-ACCF-36DEF65E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1A0A-0B2F-4814-944F-50DE54CC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5D76E-B18A-45FB-AB79-1E9A71D3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6F80F-7760-4D2F-A7AC-D1B0816A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4A7F6-9EF4-4A26-96CF-9F71DAA3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02C28-BE5D-4F6D-9D67-CED43D87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E04-B0B2-41B4-AC1B-1AE570BF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223A-550B-4620-B581-7A5B57A5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E0E3-B7E9-4315-A5D7-C232448C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C9304-DBBC-435E-A3C9-4FD501FE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BED0-49B7-435C-8D26-F45D61B9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F760A-2C77-43C8-8F12-156C2ADB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F3BFD-9BB3-458E-8C91-67087A04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BAA4F-1B10-4A4A-A779-B4D4B3C7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72CCD-DDAA-487A-B6EA-A8B828D0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219DA-D316-441D-A60F-BF6258E4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927D1-4EBC-41A1-8210-99A2484A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862-3BD7-427B-82AF-40571CE3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D8103-1EA0-41BF-AA3D-BD826A35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12BF8-6438-44EE-BAD3-EED4D8B1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2D1EF-3A12-4A35-9328-4A11859D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78834-8D96-4547-9546-53C7E36C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F2094-0902-4B08-877F-3B7CA27D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CAF25-D2E9-49FD-B750-53075AFC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BECB1-309C-4F19-BB36-095D93B6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61257-F5C8-4743-8B93-9F79FB7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A2E2B-142F-4EB1-8028-416AE146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CC642-6A06-4CA7-A691-68B603D6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E6C-ABA4-4D51-99A8-559894D1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5B1F2-4149-4F6A-B596-26AB864F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D01D7-7395-4949-8591-0F9A9074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37CA0-B96F-493E-B638-98431302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02A22-D38E-4E73-BF35-184FA84C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3E273-66C9-4B21-AECF-FA30CF26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36F39-6D1D-421B-84C7-8FF42511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737A6-8CA9-4F14-A3F4-52F911A7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AD5A-245E-47B5-B291-70B3FBC0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948C6-A988-4C68-809E-C5D7BDCE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3E272-4A3C-4A40-A86B-414260F9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BB9-6F26-4B52-BE2C-D4BA0C95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1D73-8114-44B3-A337-6145A8AC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C3560-FA10-47DE-BF9E-07196313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A5BE8-C3A3-42BE-977F-3BEC3A7B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B8913-03F5-41F7-9861-F42B91B5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A8F73-A182-4061-82C3-DCD47D8F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23605-258C-44A4-8436-9AD32E02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458F7-2401-4ADA-A90B-7ECA8DD8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063D9-E614-4F11-B39E-D8D3C0A3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86D11-2986-45EC-8172-1EC97442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50EA2-7411-418A-89AB-962A5946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0A8-6DEF-4A90-BC61-8BF19A8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B7A81-CAA7-472F-A93B-EBA38F7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D814B-46E2-4915-9379-560F4736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D73AE-CE80-48BE-B63D-E961826E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8C9E3-51AD-4DFC-8CF0-0AD06BA4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77A50-9A11-41F0-9F1F-AFC782A7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FF86E-5B23-40C4-972F-5D1AF911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1A757-3A2F-47C4-B3A1-A214CF70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934E0-E04F-4CA2-B055-C9065333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110B3-5901-4CC6-9152-36344EDD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E55B9-8327-48C8-BBAA-6256D8A4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5E5-1E9C-4275-A6D6-0DFC7265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7D47E-3FAB-464C-A896-4FF1B017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E2A9C-AE7C-4B96-A3AE-B6F9C39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3FF12-02E8-4F50-A082-92A8195C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BA2B9-BF15-4040-8200-A444E3D9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B08EB-7841-41CA-95C5-128F75D8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65A13-F85E-4E9B-87E3-C5845544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BDFCA-795D-42D1-9033-F42C1B7A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31D81-778B-4542-8683-30F05A2D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F9107-3098-406C-8631-B0DB5091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4AE17-E483-4A5B-9C9B-30BE2585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6E66-3143-401C-B809-896908E524D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9563-2F9D-4596-9E8B-518CED43C81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AC20-880B-4E78-A199-AEF349B3DF5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4230-29A4-4526-AB4C-F1EC86297B5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7DB6-D1B9-43AB-AE46-951DED0C528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F9D4-846E-4B0F-8E96-546590C0599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0226-1F02-48EC-84B6-96078BB36BD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759E-3E84-449B-8ED3-890F5FC2E02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0276-F013-4EB4-B573-FCBF003357E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E33A-4C53-4213-A54E-EABBCF95986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CBA-5443-4DCB-996F-78E224F3F52E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CF0D-E2C4-4EEB-B9DC-63AA9DBD97C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LEX ILITCHEV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ELSEA KAMINSK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Unit Two</a:t>
            </a:r>
            <a:br>
              <a:rPr sz="4200"/>
            </a:b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hapter 23 +24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D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DP – The sum of money values of all final goods and services produced within nations borders during a specific period of ti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cluded: ultimate purchas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ot Included: resold goods, goods used in production of other goods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minal GDP- Measured in current doll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l GDP – GDP which factors out infl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ach years G+S produced x pri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ggregate Dema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utting taxes and increasing government spending (G) shift aggregate demand (AD) to the right and increases price level (P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reasing taxes and decreases government spending (G) shift AD to the left and decreases P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Stabilization vs. Keynesians to Fight Inflation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ynesian Policy - Policy used in the United States since the 1950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ate guides the economy and maintains stabilit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bilization – Use policies to decrease AD and shift it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agfl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period of economic inflation accompanied by a stagnating econo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DP is slowing or decreasing while unemployment increases and inflation increa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PEC – 1970s – created stagflation in 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tential GDP (PGDP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GDP when all resources, including employment, are fully utiliz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asuring Infl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DP Deflator: comparing two price index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dex number: cost of market basket of G &amp; S relative to its cost in some base perio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PI not perfect, different for every fami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ble (creeping) is predictable, variable (galloping) is unpredictab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cost of MB in given yr)/(cost of MB in base yr) x 100 = price index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anges in Price index: (x2-x1)/x1 x 10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age tren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ges and PLs rise toge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ges rise before PLs ri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7:48Z</dcterms:created>
  <dc:creator>Nover.L851</dc:creator>
  <dc:description/>
  <dc:language>en-US</dc:language>
  <cp:lastModifiedBy>HP Authorized Customer</cp:lastModifiedBy>
  <dcterms:modified xsi:type="dcterms:W3CDTF">2009-01-27T21:46:37Z</dcterms:modified>
  <cp:revision>11</cp:revision>
  <dc:subject/>
  <dc:title>Unit Two Chapter 23 +24</dc:title>
</cp:coreProperties>
</file>